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337-907E-44C8-95F4-30C6FE1F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49C-8D87-4034-BCAF-F2A6597B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EDC-938A-4A55-9C67-17041F4A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FA1-5C51-49A9-9CA2-4A7B61DE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49C8-85CC-45EF-AA66-186EB356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6087-CB63-4C2D-A0EE-1F37F01E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B55D-294B-476F-98D0-34288F3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4AD9-8EFF-4D7A-922E-4B31EA02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B8E3-11F2-4F05-89AA-1BA8CCD1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241F-75D5-4407-991B-32BBCC61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9D86-3776-459A-8630-DE7D354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B94-6CD5-4520-AE3C-97352003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6FA9-8378-418D-A8F8-3AC2EB83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D62B-1126-4A9B-AF2E-FBAC9FB6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CB85-5BAE-43A8-B02D-2C06BF00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9F09-BE6B-44F6-902C-593EC1A0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2529-9FF1-49AC-954A-20935A8D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0F7-A773-44EB-80B6-600B335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7B9-AA3D-4CC1-90F2-7317381B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D35-7E68-41FA-AA65-552A1890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D38-1B84-485E-9D00-1C3A3565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1A8-B60E-4A97-82BD-0789AF80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289-3F08-4714-8DA3-70308711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410-92AB-4B8D-9A87-19AB7FB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0815-B679-4FDD-B690-B2CE5D981B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ED3F-67FE-4658-9A59-DAFBF0244B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A Remnant Shall Retur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8, Less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s 1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d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ople repented and cried to God fo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raised up a deliverer, to free them, thus beginning the period we call the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iod was a long one, covering approximately 4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ere fifteen leaders of the people during this time, one of whom appointed himself rather than being appointed by God (Abimelech, Judges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as their king during this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ople grew discontent and asked judge Samuel that they be given a king like the nations aroun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98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98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98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ited Kingdo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ul became the first king of Israel, but was disobedient to God and the kingdom was taken from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became the second king and was faithful to God, except with his adultery with Bathsh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omon, David’s son, reigned during Israel’s greatest period in 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e was bu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ormous wealth and prospe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st area of territory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omon became unfaithful to God at the end of his reign and was told most of the kingdom would be torn from the hand of his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98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ivided Kingdo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weeks after Solomon died, as prophesied, his son Rehoboam refused to listen to request of people that he lighten their burdens and the kingdom fell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n named Jeroboam took the ten northern tribes and set up the kingdom of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hoboam was left with Judah, his own tribe, and Benjamin, so the little kingdom was called 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 had 19 wicked kings over a period of 200 years (921 B.C.- 721 B.C.) until they were taken away into Assyrian cap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 had 20 kings, with only 7 being goo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98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98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dah Alo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 continued alone for about 135 years after Israel was taken away (721 B.C. – 586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prophets told of the coming doom for Judah if they continued their wicked and idolatrous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 failed to listen and was taken away into Babylonian captivity in 586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promised a remnant would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98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98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all of Judah and Jerusalem to the Babylon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bed in 2 Kings and 2 Chroni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rnings were given by Jeremia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iel served in the court of Nebuchadnezzar in Babyl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zekiel lived among the common people who were captives in Babyl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mentations was written by Jeremiah after Jerusalem was left in ru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tory of the Perio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Secular Sourc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yrian empi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mrod, Noah’s son built the city of Ninev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became the capital of Assy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omon died Assyrians were growing in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721 B.C. the Assyrians destroyed the northern kingdom of Israel and took the people c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des and Babylonians defeated the Assyrians at Carchemish in 609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bout the time this workbook be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98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98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898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tory of the Perio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Secular Sourc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 emp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609 B.C. they defeated the Assyri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605 B.C. Judah surrendered to the Babylonian ar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sures taken from the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iel and first captives ta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597 B.C. the Babylonians return and take king Jehoiachin and many others captive to Baby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586 B.C., Babylonians return, burn Jerusalem, tear down walls, taking king Zedekiah and most of Judah  captive, leaving only the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4267080"/>
            <a:ext cx="99072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29200" y="4191120"/>
            <a:ext cx="10666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049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rritory Controlled By The Babylon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76520" y="4571640"/>
            <a:ext cx="33526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1028200">
            <a:off x="26668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p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666880" y="457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0 Years of Cap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647712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3840" y="1484280"/>
            <a:ext cx="29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remiah; La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zek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3808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Assyrian Empire Had Been Unsuccessful In Taking Jud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962520"/>
            <a:ext cx="19051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syria took charge of Israel by 721 B.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29000" y="40384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iods of Bible History unti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New Testament Perio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odus from Egy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vid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udah A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ears of Si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049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Medes and Babylonians Threw Off The Yoke of Assyria and Defeated Her in 612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2209680"/>
            <a:ext cx="2666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decisive battle took place at Carchemish in 609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2133720"/>
            <a:ext cx="358164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86040" y="141444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00200" y="609480"/>
            <a:ext cx="62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tanbul\Istanbul Museum\Babylon Ishtar Gate d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86040" y="141444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52120" y="60948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stanbul\Istanbul Museum\Babylon Ishtar Gate 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00200" y="141444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89520" y="533520"/>
            <a:ext cx="64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Istanbul\Istanbul Museum\Babylon Ishtar Gate l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81080" y="3049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e Various Empire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295280"/>
            <a:ext cx="68580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4419720"/>
            <a:ext cx="762120" cy="533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828800"/>
            <a:ext cx="137160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62485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bylonian Empire Would Not Survive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reation Period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. 1-5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 created heavens and ear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beg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 created man and all living cr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Sin, man expelled from Garden of Eden (3:2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glimpse of God’s plan for man (3:1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murder, Cain killed Abel  (4: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listing of generations (5:1-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thuselah, oldest known man, died at 969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Flood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. 6-10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ah’s sons, Shem, Ham, and Japhe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ld became so wicked, God decided to      destroy all life with a flood (6:11-1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d made covenant with Noa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ghteous Noah, his family, and enough           animals to start a new life spa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ah lived 350 years after the fl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ah died at 950 year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ing of Nations descended from Noa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cattering of the People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 11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le earth had one language  (11: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people settled in a plain in the land of Shin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t us build ourselves a city and a tower with its top in the heavens, and make a name for ourselves” (11: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 confused their language so they could not understand one another  (11: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dispersed over the face of all the earth, and left off building the 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ity was called Babel, because there God confused the language of all the ea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1143000"/>
          </a:xfrm>
          <a:prstGeom prst="rect">
            <a:avLst/>
          </a:prstGeom>
          <a:solidFill>
            <a:srgbClr val="006600">
              <a:alpha val="9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Patriarchs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. 12-50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selected Abraham through whom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make a distinc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choose His disciples as Hi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develop the full scheme of redemption and bring His Son into the world as S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sis ends telling story of Joseph, Jacob’s son, and all of Jacob’s fami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ing to Egypt to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98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98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98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odu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hundreds of years in Egypt the people of Israel are terribly oppressed by the Pharaoh in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th and life of M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sed  in Pharaoh’s 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sen by God to lead His people ou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s Pharaoh to let Israelites go, but he ref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10 plagues, the people leave Egypt, go to Sinai, receive their law, then proceed to Kadesh-Barnea just outside Canaan, the land promised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elve men were sent out to spy the land, ten reported the land could not be taken; only two, Joshua and Caleb, said go forward, that God would be wi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98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ilderness Wander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sraelites believed the ten spies and refused to move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declared they would spend one year for every day the spies had been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soldier above twenty years old would die in the wilderness, except Joshua and Cal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sraelites wander for forty years in the wilderness eating manna and qu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ople continually murmur and com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es disobeys God and would not be allowed to enter the promis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98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98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98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98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nquest of the Lan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sraelites finally cross the Jordan River and Joshua leads the army in taking the land prom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had commanded all the Canaanites be driven from the land, but many were not, causing them problems for hundreds of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nd was divided, each tribe and each family within each tribe, had its portion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dly, within a short period of time, they turned to the idols of thei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allowed an oppressor to come agains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98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98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3:31:35Z</dcterms:created>
  <dc:creator>Terry W. Benton</dc:creator>
  <dc:description/>
  <dc:language>en-US</dc:language>
  <cp:lastModifiedBy>Frank D Vines</cp:lastModifiedBy>
  <dcterms:modified xsi:type="dcterms:W3CDTF">2007-02-01T15:53:34Z</dcterms:modified>
  <cp:revision>48</cp:revision>
  <dc:subject/>
  <dc:title>A Remnant Shall Return</dc:title>
</cp:coreProperties>
</file>